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D6989-FD51-4444-824B-3EA7477F9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A9D62-09ED-430A-A5C2-EF777D98C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279E8-3FD9-47B5-B1C5-4B7A709EB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E7C9A-0548-4977-9305-C4356B8F9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F942F-14A3-4E04-8C93-8DDFDD916D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A05DE-31D4-459B-9044-5AB3BD820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CFE5C-107F-48BC-8689-C683206F9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4DE75-A830-4FE6-B63F-2A288373E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A99CA-D40D-4234-831C-32814A076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1648C-9D39-4E3B-B404-CB796ACC6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1FB0D-428D-4E58-9C7A-BC291FDC8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77250-F354-45FC-A1BB-F20FF499E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78A59-FCC9-4E7B-A012-0DF73B455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CDB90-FBA3-4F6B-B94B-28ED324A9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25D4B-988A-47C2-866C-E9CC957AE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60154-92A6-4313-A8F5-F15FA8F95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E2B56-592D-4B75-B20C-12E982182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E595D-1F70-4889-A164-FC6CD9E25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411CE-E906-4DA5-97C3-FCAEDF242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CCB7D-3018-4C09-84BD-FF93955FA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99DDB-AA43-4C2F-89E6-EB09D064A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01C2D-843E-45B6-A5B2-1BE3AA2B1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A3C4C-D327-45CE-9942-4DB174EB1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FD07E-881F-446F-B222-451247E37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74EA-9F26-4D04-BE76-C0E7A93FD1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DFAC-CFE4-46B7-83B2-9A6AF01696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62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Does gender have any effect on the way we play Wii Bowling</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1294920" y="4723920"/>
            <a:ext cx="678204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Lucas Belot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ypothesis </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hink that it does because most boys have more muscle than most girls and they can get the ball to go faster down the lane which increases the chance to get strik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cedure </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four people play wii bowling until all volunteers have play. Record sco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ults</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nter: 135              Caleb:236</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 Bedore: 223       Henry:158</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ley:  113              Cameron:205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ylee: 180              Andrew:149</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sh: 172                 Cody:193</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stin: 166               Cole:146</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kenzi:143             Dallas:14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re Results</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oen:186</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d:163</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gan:183</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y:13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nclusion</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conclusion is No it did not have an effe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y I picked it </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icked this topic because I use to always wonder if I was just better than my sister because I was a gu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9:52:12Z</dcterms:created>
  <dc:creator>USD376</dc:creator>
  <dc:description/>
  <dc:language>en-US</dc:language>
  <cp:lastModifiedBy>USD376</cp:lastModifiedBy>
  <dcterms:modified xsi:type="dcterms:W3CDTF">2010-01-11T17:03:49Z</dcterms:modified>
  <cp:revision>3</cp:revision>
  <dc:subject/>
  <dc:title>Does gender have any effect on the way we play Wii Bowling</dc:title>
</cp:coreProperties>
</file>